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66B-7707-412E-956E-B21B313F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D0B5-CCCB-401C-8CEB-6BE14F08B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D7F-4B16-466D-A56C-342E957A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193-229C-4C33-B312-F207D827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38A-9031-41BA-90C8-4E19B919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A42-4D25-4EE7-9614-B0621996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023-F72B-4B2A-8492-33010F54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2AE-446A-41F9-8444-6EA98D0E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2BA-EAF3-4BF6-A717-CDBCABEE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007-77C4-4CC5-ACF4-E836BD07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A0D-006A-479B-8D7A-3ECE1DE2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2855-2817-4B87-BC74-59C1B39B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6B3-EEB5-4E6C-8F50-2F1D019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3CF-AAB8-479B-987A-9C749BE4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1330-61C5-4631-8C14-4DB46501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5_05"/>
          <p:cNvPicPr/>
          <p:nvPr/>
        </p:nvPicPr>
        <p:blipFill>
          <a:blip r:embed="rId1"/>
          <a:stretch/>
        </p:blipFill>
        <p:spPr>
          <a:xfrm>
            <a:off x="457200" y="533520"/>
            <a:ext cx="8305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upload.wikimedia.org/wikipedia/commons/thumb/f/fe/Caucasus-political_en.svg/2000px-Caucasus-political_en.svg.png"/>
          <p:cNvPicPr/>
          <p:nvPr/>
        </p:nvPicPr>
        <p:blipFill>
          <a:blip r:embed="rId1"/>
          <a:stretch/>
        </p:blipFill>
        <p:spPr>
          <a:xfrm>
            <a:off x="838080" y="228600"/>
            <a:ext cx="76964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F05-09"/>
          <p:cNvPicPr/>
          <p:nvPr/>
        </p:nvPicPr>
        <p:blipFill>
          <a:blip r:embed="rId1"/>
          <a:stretch/>
        </p:blipFill>
        <p:spPr>
          <a:xfrm>
            <a:off x="1782720" y="0"/>
            <a:ext cx="557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4 The ancestral roots of the English language have been traced back to present-d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c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i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Denm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re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5 The second-most commonly spoken language in South Ame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hin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6 A creolized language is a local language mixed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nother loc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t least 20% s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The language of a colonial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7 The most common language branch in eastern Europ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o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e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ong periods of isolation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8 The primary reason why there are so many distinct languages in Afric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The long periods of isolation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policies of the European colonial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migrations to Africa from Asia and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he major religious differences between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 cultural preference for languages that a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lligible to others outside the immedi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9 The predomina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ingua fran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da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wa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d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10 _________ is the native language of the largest number of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Mand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1 Which of the following will encompass the largest number of speak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Languag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anguage bra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dividu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a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guage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2 Which of the following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Romance langu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rtugu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tal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G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re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05_08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rmanic Branch of Indo-Europ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64832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7640" indent="-9176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Fig. 5-6:  The Germanic branch today is divided into North and West Germanic groups.  English is in the West Germanic group.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120680" y="592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1"/>
          <a:stretch/>
        </p:blipFill>
        <p:spPr>
          <a:xfrm>
            <a:off x="5114880" y="304920"/>
            <a:ext cx="3462480" cy="63244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5.03 Which of the following language branche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member of the Indo-European language fami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alto-Sla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el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rm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r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aucas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dcterms:modified xsi:type="dcterms:W3CDTF">2014-12-02T03:27:23Z</dcterms:modified>
  <cp:revision>84</cp:revision>
  <dc:subject/>
  <dc:title>CRS Chapter 4</dc:title>
</cp:coreProperties>
</file>